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2591-B0CA-4E7C-8D70-C80B7791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6437-B656-4997-9766-DD1D887B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D95-1CBD-4FA4-986D-9A0B2489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D4D2-6C37-48A5-B3CD-C14B6EEA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A27C-0B17-4A04-843C-9F713468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9B09-E921-4917-9777-8DF7EA10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A7E5-80AA-49DB-AF18-5D818172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EF06-406C-4AC5-8C0F-52BD36D0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DFC4-7A46-4E70-B96C-DFF468F0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24D1-CD0A-448A-8922-7751C2F7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85A8-FD73-47D4-810D-BB9161AE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DA95-317B-49B5-B4E9-A1B4B32F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DB5E-5737-44A1-A38C-E949269B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0144-C952-4D40-8A8B-5839C996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03C4-4BCA-4093-8E34-6F90CEE2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12D2-610B-4B93-8D02-E4C22755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01D3-6276-4E92-B7A6-5CC91F78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D4FE-342E-4E81-AE31-F997CD50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6B4B-89D2-4A5D-861C-6760C83E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888-A3C2-40D9-B0F9-804EFEDE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8FC7-162E-4A4F-BA77-3B3667DF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7B26-3C79-41CB-8A79-7CB6D3A2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F47F-9FE1-4D38-9FFC-7922674C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2545-050E-4BD2-AA3B-6A64D096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5509-78F9-4BFF-AA55-CBC2B2EA39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EA37-1F8B-44BE-8218-A2D056A82D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657240" y="1600200"/>
            <a:ext cx="5334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GESTION DE RECURSOS HUMANO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447920" y="4648320"/>
            <a:ext cx="64008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fesor: Cristian Binime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partamento de Ingeniería Indust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914640" y="2955960"/>
            <a:ext cx="1314360" cy="799920"/>
            <a:chOff x="3914640" y="2955960"/>
            <a:chExt cx="1314360" cy="799920"/>
          </a:xfrm>
        </p:grpSpPr>
        <p:sp>
          <p:nvSpPr>
            <p:cNvPr id="165" name=""/>
            <p:cNvSpPr/>
            <p:nvPr/>
          </p:nvSpPr>
          <p:spPr>
            <a:xfrm>
              <a:off x="3914640" y="2955960"/>
              <a:ext cx="131436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14640" y="2955960"/>
              <a:ext cx="100656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0" lang="en-US" sz="43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0" lang="en-US" sz="1300" spc="-1" strike="noStrike">
                  <a:solidFill>
                    <a:srgbClr val="ffffff"/>
                  </a:solidFill>
                  <a:latin typeface="Verdana"/>
                </a:rPr>
                <a:t>           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047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304920" y="1143000"/>
            <a:ext cx="8533800" cy="5333760"/>
            <a:chOff x="304920" y="1143000"/>
            <a:chExt cx="8533800" cy="5333760"/>
          </a:xfrm>
        </p:grpSpPr>
        <p:sp>
          <p:nvSpPr>
            <p:cNvPr id="185" name=""/>
            <p:cNvSpPr/>
            <p:nvPr/>
          </p:nvSpPr>
          <p:spPr>
            <a:xfrm>
              <a:off x="7791120" y="1143000"/>
              <a:ext cx="104760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rganiz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ru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Individu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1143000"/>
              <a:ext cx="112356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eográfic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ercad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Tecnológic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olític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Leg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28480" y="1143000"/>
              <a:ext cx="104760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Vis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is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bjetivo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Valo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4920" y="1143000"/>
              <a:ext cx="1123560" cy="738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Entor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28480" y="1143000"/>
              <a:ext cx="1047600" cy="738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Estrateg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97000" y="1143000"/>
              <a:ext cx="194544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Trabajo en equip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omunicacion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onflic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Relac.Interperson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li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97000" y="1143000"/>
              <a:ext cx="1945440" cy="738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Procesos psicológico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y psicosoci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12680" y="1143000"/>
              <a:ext cx="108252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lan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iramid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atric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st. Puest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st. Tare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st. Proces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76440" y="1143000"/>
              <a:ext cx="108252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Selección</a:t>
              </a:r>
              <a:r>
                <a:rPr b="0" lang="es-CL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apacit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v. Desemp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lan Carre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v. Potenc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Desv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76440" y="1143000"/>
              <a:ext cx="2320200" cy="32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Diseñ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76440" y="1470600"/>
              <a:ext cx="1158480" cy="4104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Sistem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35280" y="1470600"/>
              <a:ext cx="1161360" cy="4104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Estructur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59320" y="1881360"/>
              <a:ext cx="189720" cy="3692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42800" y="1143000"/>
              <a:ext cx="104796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rganiz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ru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Individu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42800" y="1143000"/>
              <a:ext cx="2095920" cy="32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Resultad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42800" y="1470600"/>
              <a:ext cx="1049760" cy="4104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RR.H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92560" y="1470600"/>
              <a:ext cx="1046160" cy="4104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Efect. Org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76560" y="5820480"/>
              <a:ext cx="2021400" cy="656280"/>
            </a:xfrm>
            <a:custGeom>
              <a:avLst/>
              <a:gdLst>
                <a:gd name="textAreaLeft" fmla="*/ 353520 w 2021400"/>
                <a:gd name="textAreaRight" fmla="*/ 1465560 w 2021400"/>
                <a:gd name="textAreaTop" fmla="*/ 87840 h 656280"/>
                <a:gd name="textAreaBottom" fmla="*/ 568440 h 65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22240" y="5820480"/>
              <a:ext cx="1871640" cy="656280"/>
            </a:xfrm>
            <a:custGeom>
              <a:avLst/>
              <a:gdLst>
                <a:gd name="textAreaLeft" fmla="*/ 327600 w 1871640"/>
                <a:gd name="textAreaRight" fmla="*/ 1357200 w 1871640"/>
                <a:gd name="textAreaTop" fmla="*/ 87840 h 656280"/>
                <a:gd name="textAreaBottom" fmla="*/ 568440 h 65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68040" y="5820480"/>
              <a:ext cx="2170080" cy="656280"/>
            </a:xfrm>
            <a:custGeom>
              <a:avLst/>
              <a:gdLst>
                <a:gd name="textAreaLeft" fmla="*/ 379800 w 2170080"/>
                <a:gd name="textAreaRight" fmla="*/ 1573560 w 2170080"/>
                <a:gd name="textAreaTop" fmla="*/ 87840 h 656280"/>
                <a:gd name="textAreaBottom" fmla="*/ 568440 h 65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4920" y="5820480"/>
              <a:ext cx="1871640" cy="656280"/>
            </a:xfrm>
            <a:custGeom>
              <a:avLst/>
              <a:gdLst>
                <a:gd name="textAreaLeft" fmla="*/ 327600 w 1871640"/>
                <a:gd name="textAreaRight" fmla="*/ 1357200 w 1871640"/>
                <a:gd name="textAreaTop" fmla="*/ 87840 h 656280"/>
                <a:gd name="textAreaBottom" fmla="*/ 568440 h 65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1128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ODELO A.S.H. (S. QUIJANO/200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CASO CANAL 1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uáles son los estilos de gestión de RRHH que se identifican en el caso? ¿Cuáles son los elementos distintivos entre ell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Qué elementos del caso responden a una nueva concepción estratégica de RRHH?, ¿Por qué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ómo se entienden los “focos de resistencia interna” y de qué manera pueden ser gestionados desde RRH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Unidad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 entorno cambiante y la gestión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ratégic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 Recursos Huma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Program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 final del curso los alumnos deben comprender la Gestión de Recursos Humanos como una actividad de agregación de valor a las empresas y organizaciones, disponiendo de las herramientas para diseñar, planificar y ejecutar políticas de gestión de personas y organiz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Program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90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pecífico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Conocer los principales enfoques de gestión de recursos</a:t>
            </a:r>
            <a:r>
              <a:rPr b="1" lang="es-ES_tradnl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human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Diferenciar funciones y procesos de la Gestión de Recursos Human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Analizar agregación de valor de la gestión de Recursos Human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Analizar el entorno de negocios y el rol central de la gestión de personas en la competitividad de la empresa del siglo XXI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 entorno cambiante y la gestión de Recursos Huma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cambios en el empleo y el desarrollo profe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 gestión de RRHH del “mando y control” al desarrollo de la confianz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s Organizacionales y Gestión de Recursos Human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nfoque sistémico y la Gestión de Recursos Humano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organización como siste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sistema de provisión de perso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sistema de dirección de perso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sistema de evaluación de person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sistema de retribución de perso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sistema de desarrollo de perso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Gestión por competencias. Un nuevo enfoque para la Gestión de RRHH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 enfoque de compet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fini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mplica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Gestión de Recursos Humanos y la agregación de Val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nuevos roles de la Gestión de RRHH (estrategia/operación y procesos/person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estores de RRHH reinventarse o mori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enfoque de Gestión de Personas como agregación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desafíos de la agregación de val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Metodologí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La metodología del curso está centrada en el rol central del alumno como sujeto del aprendizaje. Mediante un conjunto de actividades y ejercicios los alumnos irán conociendo los contenidos del curso y aportarán desde sus experiencias y lecturas a la comprensión del rol de la Gestión de Recursos Humanos en la empresa del siglo XX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Evalu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l finalizar el curso los alumnos deberán entregar un ensayo (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áx.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10 páginas de extensión) que responda creativamente a la pregunta ¿Cómo agregar valor a las empresas desde la Gestión de Recursos Humanos?. Para lo anterior los alumnos deberán leer la bibliografía obligatoria del curso y los contenidos de cl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finir fecha de entrega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8:03:45Z</dcterms:created>
  <dc:creator>BertSR</dc:creator>
  <dc:description/>
  <dc:language>en-US</dc:language>
  <cp:lastModifiedBy>UNIVERSIDAD DE CHILE</cp:lastModifiedBy>
  <dcterms:modified xsi:type="dcterms:W3CDTF">2004-03-08T20:53:59Z</dcterms:modified>
  <cp:revision>40</cp:revision>
  <dc:subject/>
  <dc:title>Slide 1</dc:title>
</cp:coreProperties>
</file>